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8881-C6A5-4D52-997C-3DE717BB4ED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A8BE-7FFA-4076-BBC4-F2B0984DB6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1186-A767-4CD2-94AE-1D875808A4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73300-DE99-4AFB-8A7D-62AE39386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47EA-7B6E-4880-A6C2-8787EB579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16C4-09B1-4147-AD65-3B17AFB78E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4F3F7-4575-4F49-8A95-89A77A1997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F0486-CA3E-47DF-8FDF-AC1568B88D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C744D-D20D-4087-B8E0-A74673F13D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C677-559C-47BB-9DA4-B47CF50091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2CB12-CC64-4A81-B0A8-DCE4C194B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0ECFE-B8F7-404C-9BBB-29748714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939F57-BE27-4CA8-B83E-DA29546E2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E81EE-654D-4F77-ADEF-B8C75D8B1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0EED29-8787-45CA-A03F-BA7781158D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495C5-9759-44DF-9A92-7E3D1E0369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999E0-BAD6-4DFB-85AB-A04232458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704A1-E625-4AA0-9AE4-B3D6028C7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AEF798-EBC2-458F-8BE6-DEEB5C6B6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56965-0E89-40A8-B31E-87AE6BAE7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128B9-BBF2-4192-971D-86888641B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9B7E6-AD30-429B-9265-8905E3708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79E09-6424-47EA-99DC-46E8BF363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EC0FC4-EC20-48CF-9852-2EEBD41E6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91F7-D22D-40CF-BB0D-00D626E1B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9E93B-2A16-41F7-97E7-16E0DE6FE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A6EEA3-301A-4A76-B341-0BFFF702E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63CD9-DD9C-45E9-AC35-841064940A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68359-6703-464A-9062-442C923D5D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B59F79-AE25-4FB0-8815-0286F199E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41359-FDC2-4379-A104-44CD2B1126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748629-F9DC-40DE-AD6A-1B90EEC1F4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9FF0-1F1F-44EB-A30D-7479CF85F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2A3AD2-F07A-4038-A91C-8AF82645E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34D40C-C25F-45B4-BD38-60104FAED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A00D2D-3295-44D2-957B-92E5D9C9F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2B8C2-DBD9-43C3-A95E-C4682E4D34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004FE-BA90-459D-A857-9B342E8CA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6B5A99-F487-408C-9DF8-AB7BB5BBB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79A36-3E9C-452F-AA26-691F2812AE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836631-C2FE-4E88-A222-D8084A9E4A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0CB85-0E18-4A70-82EC-EF88E6870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B0E8E-5F54-4E5B-A6C5-C7E0AC9A8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D4D3E-806A-42DF-B73E-3AF31F2CF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9145BD-8559-4D23-9E48-42E9215290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BDC63C-0E69-4E62-BF6D-78939E60E3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70CB28-1D4E-424C-85CB-1441CDC58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DA7D1-277C-431F-8A84-2AE680372E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2DFA4-3FC8-4B2B-BD28-0C8A8227CA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5C4A0-DC25-4178-83DF-66B2DBE030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0F5884-C486-44B8-971B-1FA4C6F6E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DE58A2-C99C-411F-8653-2DD8800045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3B04C7-5D84-420E-9C0A-41D048BE5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6CD234-6D3A-4C81-82CB-433F208E0B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0179D-48D7-4A94-B0B3-CD634C980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5F400-5335-47EC-B58D-01BB658580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60A927-4E37-4CEA-88F2-CA1686EDE8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8F0D66-7DA8-41E3-B47F-65C33D1E23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18641A-3C92-4F8B-BE4A-C2B14BFB9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7ABF81-E9BE-4EAC-BEA3-FB6FB9F1D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A5609-6FF0-4C30-906E-8221824D3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F323C-BE6F-47E1-8A61-D79B63F05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EEC161-C6CF-4161-A586-AF74BD5F4A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4A1819-C646-4610-91A5-220C72531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658D6F-809E-4D5F-A671-8CE0A8203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C2F9A-C187-4FDE-9F7C-D40A0515F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DACB50-4F77-4DC2-990C-9F55C9F4AF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1D7D-81CC-4213-B796-87EDF6DA4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3014-96E7-4DB5-BBE6-4D550B9AF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43FAA-F712-4DBA-BAF9-65B5AEE48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D67B-485F-42C4-8D2A-0D46DF84C95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9EE81-9338-4E44-B14A-62985A09ACA7}"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1E9B-48D3-4AC2-8C22-24D9A764F772}"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7DB52-07C6-4926-B105-B3E193E6C042}"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D5C5-CBFB-4F1B-A654-20FB72529F5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hyperlink" Target="http://oreilly.com/web2/archive/what-is-web-20.html" TargetMode="External"/><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3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3"/>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4"/>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5"/>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03T01:38:26Z</dcterms:modified>
  <cp:revision>58</cp:revision>
  <dc:subject/>
  <dc:title>Slide 1</dc:title>
</cp:coreProperties>
</file>